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7027-EBDE-40D9-89D7-6AB3553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42AB-7376-4A51-8F92-7D8CB49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E1EA-9BEC-4052-B1D5-A96B76CA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F078-F1C7-469B-A3D9-7C0A216D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BD8-08F3-40CB-96D1-C17359A2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3BD-11A4-48E9-BE0B-A67267BE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3784-B908-4CAF-BC98-D8EC085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5C8-8E60-4B53-B1CB-0234117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BF0F-12FD-4642-81A0-EF380B6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0D34-ED63-44DD-8E71-B2EB9903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A046-127E-4713-8C5D-7A0555B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6565-8AC9-4A5B-B438-D1A59A1E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48C-D4AA-4E06-A046-3C3D56C1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749-D29F-4334-8B70-C9E3A54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C45-FCA0-42A3-A007-4B21AD4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B502-BFE8-49E1-B880-72AB9406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8A30-D04A-4DBB-A5E5-C415BD3A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2428-2AD1-468F-B8AC-51AAA526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F3F2-AD71-4941-82BD-2B32EF6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1EA3-15EF-44A4-99FB-AB03B0A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065C-BE2C-448A-A0D6-CE24287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62E1-1E9A-48C9-8BD8-FB984FF3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6915-FD4B-4ABF-9804-BBAF3A7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DAA4-618A-4D32-90C6-51A0011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C73-6C30-4F2B-B147-B92772441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4228-74CF-46BD-A900-CBAA72D3A2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20242200">
            <a:off x="151920" y="1599840"/>
            <a:ext cx="6629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Choclate Chip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0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Cook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5334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nny              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4380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115400">
            <a:off x="0" y="594360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440" y="380880"/>
            <a:ext cx="48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e Play Music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angerous John Do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4/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freeplaymusic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1320" y="5335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Wakefield"/>
          <p:cNvPicPr/>
          <p:nvPr/>
        </p:nvPicPr>
        <p:blipFill>
          <a:blip r:embed="rId1"/>
          <a:srcRect l="0" t="0" r="69417" b="-4824"/>
          <a:stretch/>
        </p:blipFill>
        <p:spPr>
          <a:xfrm>
            <a:off x="4952880" y="0"/>
            <a:ext cx="419112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Wakefield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914400"/>
            <a:ext cx="320040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meisons MIT program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uth Wake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ednesday, September 29, 2010,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eb.mit.edu/invent/iow/wakefield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Ruth Wakefi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th graduated from the Framingham State normal school department house hold a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graduated in 192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and her husband ( Kenneth Wakefield) purchased a house in 1930 in the middle of Whitman, Massachuset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made her first chocolate cookie in the toll ho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 She and her husband made there house a cookie restaurant and it was called the toll hou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New Years Eve she made a batch of chocolate chip cookies and burnt the place dow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Chocolate chip cook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colate chip cookies are a desert that has dough heated with little chocolate chips in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was originally called the toll house cooki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was made in the year of 19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hole world started making the recipe a short time after On new years eve the batch of chocolate chip cookies burnt down the whole toll ho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9Z</dcterms:created>
  <dc:creator>install</dc:creator>
  <dc:description/>
  <dc:language>en-US</dc:language>
  <cp:lastModifiedBy>install</cp:lastModifiedBy>
  <dcterms:modified xsi:type="dcterms:W3CDTF">2010-10-14T17:33:23Z</dcterms:modified>
  <cp:revision>11</cp:revision>
  <dc:subject/>
  <dc:title>Slide 1</dc:title>
</cp:coreProperties>
</file>